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251-CD8B-44F7-A4C2-7D490E61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424-D527-4C52-AEB9-3C635513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C4E6-43D0-490D-8213-1E7E317E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874C-5485-45E5-B0D2-BA85F77A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60F9-18A8-4395-AB4B-A2847EB0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6718-22D1-441D-A0DF-1232B0F6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EFB9-5338-41F9-A05F-930F7E05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4134-F245-4C0B-90BD-2136BCD7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8F4A-C767-445F-AA60-05E4728E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B29C-A183-45F5-84E5-A9F59647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B2E2-2E1E-469F-804C-0A964421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EBF9-C337-4CD2-AB02-AC814675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C837-6E53-4B2A-ADDB-17B12E81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0E93-1E89-4119-98BD-133E61C7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D98C-DCB5-4DCD-91E7-7A8DE846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C18F-5E8E-41CC-ACB5-EA39ABA0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C23D-4597-4CB1-BAE5-DC7DC231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C9D-3421-43BC-8E71-3821DE8C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4F0-CCFA-449B-B34C-B737672B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AEB-E663-4843-9E04-34052F32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A47-2739-44C9-A8D6-0A39DC30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A7FC-4652-41DA-B75A-9E799919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E3C0-A56A-4733-8A61-93798E21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5E62-9D53-4201-8B64-723D42CA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922D-AB8B-4492-B4A7-E6AA2EEB326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5398-FEAD-4188-915C-7AFE55EAF1F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AE0022F9-4B25-499A-BA77-FE57EC39B3B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428760" y="1357200"/>
            <a:ext cx="521496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tenses are the following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ο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λεπ - 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στευσ - 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δασκ - ε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σ - 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γ - 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4429080" y="2259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4429080" y="28684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4429080" y="34974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4429080" y="41068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4429080" y="4708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4429080" y="52322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8 TENSES IN THE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8204A0E2-0CC5-4CE0-8CDE-762293B168F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οιη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ησ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σεκυνου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ἰτησου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τηρησ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ζητου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ὐχαριστησ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ᾠκοδομησα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5106960" y="21700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5102280" y="26654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will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5102280" y="3184560"/>
            <a:ext cx="32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ere worsh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5099040" y="36939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ill 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5099040" y="41846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k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5099040" y="47005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/they were see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5102280" y="520704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gave th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5102280" y="57150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B24B7C7F-90FE-4539-BC79-2E7AFD8B760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428760" y="1417680"/>
            <a:ext cx="7643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Greek tenses are correct for the followin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ill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ere hea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used to 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are thr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429080" y="2259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4429080" y="2813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429080" y="334656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4429080" y="3902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4429080" y="44496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4429080" y="501336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243522B2-18DB-4352-A2FA-3267DB0AD40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428760" y="1357200"/>
            <a:ext cx="52149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μβαν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εμπ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απτιζο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στευ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429080" y="22716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ill h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429080" y="2881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429080" y="3511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as s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429080" y="41022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as bap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4429080" y="47372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bel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4429080" y="5369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E64E0AFB-265B-48CB-8F7A-E4EB5D40C3A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500040" y="1228680"/>
            <a:ext cx="48578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βαλλο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υσα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σετ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βαλλ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πιστευσα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λυσ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are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ill bel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(pl.) were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560840" y="204300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were thr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557600" y="25113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unt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557600" y="29703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(pl.) will h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57600" y="343224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(sing.) are throwing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557600" y="387504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bel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557600" y="43275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ill se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4560840" y="475920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ραφο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554360" y="521820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ιστευσ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4557600" y="56815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αμβανετ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0E5EDC7D-B5A9-4DC8-8022-DCEA35C75F9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57120" y="1357200"/>
            <a:ext cx="5214960" cy="50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δασκεν τον ὀχ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ἀκουσει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ἁγιοι ἐχουσιν τον νομ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σομεν το πλο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α τον λογον ἐπιστευσα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714920" y="22590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was teaching the crow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4714920" y="2881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will hear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4714920" y="349740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oly ones have the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4714920" y="4089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ill untie the bo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4714920" y="473724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d you believe because of the wo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714920" y="549432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/they were speaking about the king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07520" y="5322960"/>
            <a:ext cx="38901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εγον περι της βασιλεια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E709A01E-6A47-433F-A410-99F08D418CB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14200" y="1190520"/>
            <a:ext cx="4357800" cy="59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ως ἀπολυσεις αὐτη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ἀδελφοι οὐκ ἐπιστευ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used to take the bo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believed the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good master will set free the sl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used to speak but now I will lis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4714920" y="20988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will you divorce 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4714920" y="27036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rothers did not belie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4714920" y="3259080"/>
            <a:ext cx="42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αμβανομεν το πλοι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714920" y="3786120"/>
            <a:ext cx="42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στευσαν τῳ θε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4714920" y="437976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γαθος κυριος ἀπολυσει τους δουλου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4714920" y="5459400"/>
            <a:ext cx="42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εγον ἀλλα νυν ἀκουσ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E5861116-9E4E-4807-A07F-CF01E193ED9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these verbs into the Imperfect (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ὑπα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βλε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αλαμβαν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καλυπτ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δασκ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5106960" y="217008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5102280" y="26654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ὑπη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102280" y="31845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λεπ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5099040" y="36939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εβλεπ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5099040" y="4184640"/>
            <a:ext cx="2714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ελαμβαν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5099040" y="4700520"/>
            <a:ext cx="3143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καλυπ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5102280" y="52070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νοι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5102280" y="571500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δασκ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-112680" y="2412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 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UFF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FCAD074B-E778-43D6-861A-C5A0E1D4195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these verbs into the Aorist (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πτιζ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μ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λ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σσ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βλε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καλυπτ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ξαζ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5106960" y="217008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απτι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5102280" y="26654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εμψ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5102280" y="31845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κου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5099040" y="36939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λυ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5099040" y="4184640"/>
            <a:ext cx="2714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ηρυξ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5099040" y="4700520"/>
            <a:ext cx="3143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εβλεψ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102280" y="52070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καλυψ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5102280" y="571500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οξα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244440" y="71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ALING WITH THE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SUF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A9A2798C-B056-47A2-B8AE-74DF400B016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tense are the following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ραζ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ωξ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ψε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γραψ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χο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εβλεπε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ισο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ηρυξε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5106960" y="21700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102280" y="26654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5102280" y="31845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5099040" y="36939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5099040" y="41846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5099040" y="47005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5102280" y="52070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5102280" y="57150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3:21:07Z</dcterms:created>
  <dc:creator>Sarah</dc:creator>
  <dc:description/>
  <dc:language>en-US</dc:language>
  <cp:lastModifiedBy>Sarah</cp:lastModifiedBy>
  <dcterms:modified xsi:type="dcterms:W3CDTF">2009-03-03T18:48:33Z</dcterms:modified>
  <cp:revision>53</cp:revision>
  <dc:subject/>
  <dc:title>Slide 1</dc:title>
</cp:coreProperties>
</file>